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4E92-9F42-423A-938B-7B2B0DF74A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4B43-0D0C-44BD-9FBF-AF11247A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821626-8C79-422B-A01A-2EB57C42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059A7F-297E-4F92-B261-2CA09913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CDA92-8C0C-4BCA-9E24-2CE48470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25B958-EB6B-4DC1-A0A0-E920830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8A03C6-B796-49D9-8B73-311AD5DD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2850AB-46EE-468B-887F-1BCE5C21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B4EDCF-516C-41A3-9590-1FA3AF5D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C7A49-BFC4-44B8-AF38-A3A9101A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144B24-C4F0-4222-AE41-D1B38BBDF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31D26-897A-4EE6-9A58-26F5723BA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FEE4-29EA-4C20-B1E8-37000B1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0D60-A412-405F-8F68-A0580759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E157-5498-438A-9F5E-AAED27CF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EBAFA-AE60-4AA0-B71D-A7B5CCF6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94A7C-F611-4F42-883C-A9E3C68D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EA1E2-D43A-406B-878B-49BD94A3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989B-64EF-4FF8-B31D-851E9906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B92F-3350-492E-A45C-32FC7951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34A1B-1A91-4608-B1CB-9024ECB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0BEBE-2F60-45F4-B2CA-F8C17218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AE3F6-EF01-49C9-ACF5-88CFD48E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B8E3-3977-49F5-8900-F577E0E50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53D4-FB7A-4F9D-99FA-0EC9B61F3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B2DA95-DEF6-463C-A2F2-938E6B9AC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4F0297-2FA6-4A13-9D80-FD22CB19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8B433-8EBA-44F4-A202-AC91C894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F1A90C-8534-4DEE-8FB1-BB8C2E28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F94D8-36F3-45E9-B0F4-810B2AC2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76880B-41F9-41FF-AEB0-C29D7E9F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51C0B-0AB3-491A-8D0A-1701CE8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D4DC03-4228-414E-8B2C-D8A7DFC3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A63B8F-F130-4730-AA2D-C273ABC3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ACF67-B358-43F0-BCE3-DEAA5EF8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F17C6-584F-4701-B4AC-77BD3F2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B02EE-8E09-4C14-973A-F0225D0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8DA7E5-FEB5-4A00-A2E5-A74F08B85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3CAC9-B622-4AD1-8EB6-67999183F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BDF32-7BDA-4C13-89F0-A48C8D87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E7F89-CE43-4018-A1ED-704BF0BA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25A28-A312-4A02-9AEB-FAB21EEE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C9C2B-F6A6-4F9C-B80E-3C63BC3C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D15C4-C411-41EE-ADBB-E05CAFD6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A9BBF-C633-42CC-A03F-18CF7FC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94204-7F99-4A77-B3BA-DDAA84CC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373C5-0207-46F7-96C5-E6CB6322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7F865-A468-4770-B61E-F56B922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0D9CA-520C-4BBA-9A2D-7D93559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26765-E450-4A3A-B7F0-9D4DBD59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FB068-D950-48EF-A9E9-781E46D717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E87E2-A509-4A5D-9D71-9CD2B7A7AC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056EE-3F7F-4FD7-96ED-CE35AB35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5559B-D618-4FE4-84A7-2BC798A4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F6F31-97FC-4E88-9EAF-4FECEA45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9D339-B543-43D2-83AA-51347E8D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FD0A9-7F34-4510-8E29-88216427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5A019-E3A2-42CC-BC8B-61A236B7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3DFEC-E8A6-4267-A512-8128BC2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5221F-5EF9-424A-9C88-C30177E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FC69F-6653-440B-80E5-6F79648E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BF93C-92FC-4BC6-9EFC-C3674F4A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C8E37-EFB8-4D1C-B14C-1E58CC5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9EB69-531A-4CF0-9374-96B5BA972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6A530-366D-4ED4-A448-4C26C52C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F9B73-33E0-44BC-B9E2-CA22DC44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AED02-9349-4D0C-88D0-27BB0810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46073-F219-41CD-BDD7-B6368A0F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339C6-CD4A-484A-8648-373823BE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B297F-4B0E-474B-8A28-DCDB61D7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19F80-D9D7-445D-ADB9-C2A78904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B61E6-65B3-4BCF-AE9A-9F314D0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EB633-0C01-493B-B894-0F4F6A5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CC09F-9DCA-4E5E-9EB5-74BD4B8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48EB6-0B0F-4D76-8E32-EF49D24D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937F8-0C85-41E2-A0A1-D39D2621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8495C-9E1A-40DA-B0F2-2A7B001D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9FE2D-A3F3-446D-9C57-83B0592D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392A6-1975-4414-BBA6-DCF8D1EB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188CE-B69A-4C65-84FD-D375D009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FDB94-94B6-475E-91DC-61B9594D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88B8D-4AB2-4348-B6DA-7ADFD05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08DA4-8BB4-48DD-A507-CAD562F7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036EF-B054-402D-A93B-66F9E7CB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5DE48-D78F-4868-9270-83CBCA0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E0E39-D02F-4E70-931D-2CBEBBE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3775A-E403-4AF8-963B-617B25E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B28D7-64D2-414D-B295-21BC3E2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2AD5-00C4-45B0-AD51-D3522439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BA8C2-6C6B-4366-B833-B7A528DF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7D79A-75B1-4EB1-917A-3C095B0F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F4694-7022-4DC9-8474-BF83BE13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0D169-9060-4637-AB81-E91014A1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E8D59-CE9B-4B24-AAA1-6BD2FD92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F1F2C-3735-4C66-88BB-55646CD6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4B325-C446-41DD-9AD2-00C239A3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6824E-2D84-45D2-B1AA-E436163B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F7DEC-48A3-4CCA-9195-DE1F5B37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DA649-8C7C-4D6C-B159-1E56A85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F0F1B-A1B7-4676-92E9-8BB0062E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6EE0E-0BC6-4375-9257-7759644C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60A78-5C4C-44F4-84C7-A0340726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0F3B4-BCB9-41AF-9401-2743BF51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858C3-C713-4438-8ABF-C977377E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21841-9623-49C5-B0C8-63B9B41F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396EE-B0FD-499D-AF02-3CE506B3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7B49A-0CCC-48DE-A538-87521B2A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99AC6-CC3E-4D8E-A3F2-BA5DA2C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52162-8C40-4768-B249-9254B9E1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F4013-60C0-46F3-A58A-126B69DA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F2208-4CFC-4183-B4BD-1E6B083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8A8D-C080-424C-A185-1D2BC5F7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2B1AC-C248-455C-BC08-FB921981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D9867-D78A-4E14-A923-D5B9C94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DE9FE-EAA8-4925-A57A-36AB1CE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A235C-43F4-4FAF-92E6-A4A99833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D5C5C-8416-420F-B718-A0612F29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BDDEE-BFC1-4AA1-9088-67A58E82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76617-19C6-4B08-B815-0D5EEA0B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9994D-81A0-490C-9DE4-DD5D0EE8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5A930-F5EA-4A7D-8308-3B75579E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50F3E-88CA-49BA-A36D-867D1C06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626EE-700F-406E-8ED9-F3489B54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49F71-4A9C-42A8-B770-D340D17E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8A07F-C876-4ECB-A4E3-449155E1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49034-096C-4137-AA0C-4CD3799F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76286-E968-44B6-BF57-3A74DA1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FDDCD-9C1C-47E1-9F56-7905ACA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D17DA-9702-4598-B73A-AADB5F4B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DAA01-06E4-4AC0-8000-BC00F186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49787-2A24-475D-A025-C3437337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2E2D9-8CED-48AC-891A-0A194F52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5CDC9-7B63-4A37-B968-4BD9747D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087BD-1B52-47FF-BB15-D1788B96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3B0EC-75B5-402D-88ED-ABD04F27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60EF0-CE9D-402F-B1FE-5BF92F3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0F7BF-0364-49F7-B443-395A58FC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B4ECE-D2DF-449F-B448-8E6CE5C8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C2EDE-8C0E-4E6D-858A-737012E9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EF131E-8789-4A75-9826-C077B10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4D007-6AB8-4CB0-AA99-6BBA73E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E159E-4326-483A-9748-D9680ADC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2ADB6-0F03-4DA0-85E4-5866B936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725B4-638C-4F33-ACE3-075D2C72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2EECB-B14E-48AA-A43F-77FDE7F0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30439-4DDF-4CF3-9A0B-5D88C7F7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56F04-A734-47D5-8E1E-2DCB1E9D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62C21-7F58-40F2-AFF4-04E86421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9765A-6849-4616-95D4-A0C3B9AB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ACBCF-32F5-4DC5-B6A8-C7A27B2A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F7158-E1E6-4124-949C-B173761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D891D-77ED-4D54-88E1-E5A5BBF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773FA-4780-415D-9C29-E2D8506F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A1E6F-A26D-4C25-8228-67A42F6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864EE-4D28-4BD6-8580-DAACEA48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25E35-908B-4870-81BD-2C92262A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A699F-A270-4E83-B85D-66DB78E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7E3D2-6E75-44A7-9BC3-2958F272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50A74-AA39-4C04-8513-E0A69477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58260-BCE1-498C-B3CF-776117AD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9BE4F-5B39-4715-992B-69C370ED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1EC46-E785-46E3-8522-2ED90F4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800E3-3D8B-4D36-BC62-1F5C65C0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8DFB1-3982-42AF-A961-F4B6723B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42A03-4E37-455F-B0DA-60B23139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BAACF-6574-4483-BCB8-E374282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C5A2B-3416-4D7E-A9C7-7F766028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7E7C5-C544-4373-A7E5-18C0891302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A9807-2F21-40E2-93C8-7A655EF4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2488D-03A9-478B-9EA3-B64C06A6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309E9-6567-43C8-97BE-C00FF231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282E9-70AD-4AEB-8C14-95E3B4C1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06308-85EF-4DBC-BD9A-361407B4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FF4BC-60C1-47D9-AB77-226A1710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31B19-9C67-471C-B8AF-4C39FFC3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8A191-6120-40E4-BBC8-1FF4C9FE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534626-25B6-4E5F-9D51-F7386A8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671086-99DF-4B2D-830E-C6498C9F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304D1-B24A-4AA4-956E-283D1958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DBAEB-A603-401B-90F1-78208AC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6341F-7F51-41B0-8437-C2D7B78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9E211-19F6-4BBF-B02C-8B7F68BA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3251D-D586-488E-BF71-BC612AA2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E52BE-67E9-4A0A-8A02-D3FBCBC7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362EDB-9583-4507-94CF-A0EAEDD6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A2231-7CC5-47F9-BDAA-CD49F634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D5A0A-6A9A-4C77-81F7-E9AA2905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8477E-01A1-4C0D-B7F2-BA15E25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9BFF0-B7BD-49E7-BE20-8CEEB890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F69AB-E867-452E-8D74-E841DF90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8D3C9-799F-4142-99D3-09813673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94792-8D37-4425-B877-10345A88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E592C-5B60-4ABD-9C37-2C7F3341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7766E-4B05-4F73-86CC-F3B0021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426EB-D579-42D9-A84E-2B5822F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3D265-9C3B-4606-A383-58A43FBE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40EF5-1A86-4663-9B14-1A236542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611A4B-A573-4BC1-9D1E-1C0CD07C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0A948F-31FA-42FB-A091-31F62494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17E4F-775B-49DB-8DCE-1B2B750D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CE4E2-F700-4D5D-83F8-7B75F60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05FC3-D1DC-47A8-9EA9-92C41C1D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0E6BC-28DD-43D5-91E7-657FC8EC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98D6C-5ADA-48D4-8A93-5F23088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B75C9-B0C6-4DDA-B4C8-9E107283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7E76D-CF97-43BA-8A63-6DA1969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EE9D2-DC63-4412-B3C8-6AEBB10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810A9-9565-41D3-8972-3DE8BA1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167C96-C84A-4CBC-9C4A-650A2795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D51CF-B5EB-4B2D-9ADC-529068FA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4B1C6-E043-43F6-9A0F-8C5D7223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6772-E12C-4282-816F-27331B16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174C9-F42B-4DAE-9688-54E17503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26B2B-5155-435D-8481-ED0A2F6D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19B639-00E3-4FCD-8E9F-263E8DE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42BB7-422F-4BEF-A9D0-96451A3D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82057D-D861-4359-92AA-F390F957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C7B39-C46F-4919-AAF7-1BA3F3B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29F6C-3945-4844-BF1C-944DF494BF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9B9B-5408-44A0-ABDC-16ABC4BEC5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F645-AB3D-4EA7-9CFC-0200269D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5A31-0FB9-4496-959F-8326A6BA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676C-48B6-4617-9A04-066F358A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8949-EC22-476B-A22C-1F863EF5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FCB5-C111-48DD-8CA7-4F661335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F78F-F532-4683-A5E2-3B71D174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7DF6-7241-48E8-9BE4-8A65D66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931C-B75E-47B3-9C57-65602630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FC30-A1C0-4F68-A251-BF8F7F01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ACF4-FDD0-42B4-8E8D-7C556ED3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34B4-1D4C-4C61-AF42-5633A649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0583-21AF-4AF9-BCA4-BB85A1EA22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9D6CC-BF09-4CB8-840E-AA61F51C80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6CD5-6624-426C-B2CD-61191FE2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BF0EE-D8E7-4D4A-99EF-1D5E5C3E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8F2CC-ACAC-4D47-AA11-2202A14E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ACDF7-1823-4C44-9412-07FAB6D6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EC816-B87B-49BE-9B02-D998244A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B436B-429B-4FAE-8B32-4591CC45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5FDD6-8CFE-4952-BE88-3CD8937C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A1E0B-6524-4C01-BDA6-A8380D3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44E51-CEDB-4630-A130-7448AC98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225BC-E618-4CC1-89FC-4D75BCE8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9C502-BC43-4B20-B565-AD0D7F46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332E-EFB0-4057-8074-5B9F0EC2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35523-E972-410B-9F88-BF499C0DD5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D299C0-D4AB-4A3A-AB1D-2D7CAE19A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29AA2-1C66-4B35-BA8B-9D331E3A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89ABC3-2565-43F1-A2DC-FEF13DDC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024FBE-B9BB-4113-A536-A0413A53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D3546D-F751-472D-B42E-2B45DEB2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A95836-6A3A-4AD0-8E7A-D28AD6DE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5E321-2D37-4177-BDB7-B49F1FC2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646135-8686-44EF-8A05-E7B625AC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5871F-690A-4289-BC49-A267EA81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3EA1-20A7-4801-9DA6-181DAE29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F81A5D-8B4A-4192-B68E-3B075E38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A11CF-B4DA-4F9C-8BE9-5B41518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734D2-F94A-4D77-975A-EF2B18E06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6972C-E9CD-45A0-8313-B9840AD2E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095A0-124A-4FE9-B5F8-49BF7A2F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D558-06F6-40A8-B076-95BDBEDD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CB45-5650-448C-BD1D-227BEA2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0DCAB-4758-4BE1-8912-9E8A73C1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50384-E62D-496A-B47A-A21C94A8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2940-B3CF-4950-A002-7DC2B662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9836-D9B6-4D38-85BB-796AD2DE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6D04-0809-4A2E-B959-D62DD068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8351-54F7-4278-81E6-319C496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83C96-EBA5-4602-A1B3-5DCCD24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EDBA-7D71-4DE7-86C5-2AF4A9FB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C3702-F1F3-4316-B6B4-D7C798FBE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B5A89-1928-4B58-8550-1BDD30AE1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E1055-0B9B-4818-A533-E854012F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C7655-994B-483B-A55D-5C699ED9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2359B-3C70-40A2-88EC-6C0A0E68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9DB41-0DF5-4460-9923-CCA27A40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93DA-C818-4532-8806-4CF76D52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77443-968E-4F8F-8A9E-7655B0C7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18856-E45B-4047-9383-F98B59A1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4E88D-565B-476E-A940-6A5C107A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A9846-480B-4610-90C9-B478788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1598A-3ED6-48EF-ABB6-7CFD3336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5EE61-0AC7-4017-A788-C778170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D65F2-19AB-4049-BE7C-3266DE844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87A36D-AC1D-444E-A0C7-E5B71CBCB7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670041-AAF6-4FBA-8203-57A3E04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D7810E-A892-4BB1-BE5D-5FFCD815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973B-CB42-4D2E-BDA4-9C732173B3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0E0F-BA45-46BB-8DCF-176AA9688C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E3D1-5213-473A-9A66-5043155E8A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E86-7340-4D0D-B5EA-F7DFF4FFF1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180D-2FB1-4071-8D34-67DDC7182E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D6D-E427-40C5-9529-0D82DE9256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A43F-BCEA-4B18-8E89-CFCCE2314EB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27DF-6AF1-4B4C-981C-1AA5F7E10C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29EA-0186-43EE-A87F-5C9E41D27A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9626-4760-4C8D-B3DB-776E553EEC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6D82-DCD9-4CDF-8450-24ED7CFA58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833A-9944-4BD4-A1ED-AFA2C294A1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C165-7644-4823-B266-F1CDEEE216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1763-AE31-4DD6-B097-C4E4C4F9B2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D4CB-0085-4A40-A9B6-5361605ED1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083C-E945-4204-8018-8035DFE62E6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4FEA-58D5-428F-9823-7EBEFB0839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B98D-3B75-48B9-A8D9-32408C63C5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49C3-EF39-4442-B08F-6F294746E77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425D-75DA-4B73-9BE6-36603ACE25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431D-165E-4F2B-B7D1-F4A178EA76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A2C8-6DFD-4244-BA10-C0471EFD93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85B4-31A4-4B72-9F5B-D1CC113D4A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9604-B8AF-4894-8ADF-CF3F7B14D4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9720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乘 法 和 除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352680" cy="360"/>
            <a:chOff x="2284560" y="2448000"/>
            <a:chExt cx="33526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352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45908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444600" y="11124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整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1224720" y="689040"/>
            <a:ext cx="6426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下面各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23×4=       230×4=       18×3=       7×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54÷3=       540÷3=       60÷3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=      250÷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79"/>
          <p:cNvSpPr/>
          <p:nvPr/>
        </p:nvSpPr>
        <p:spPr>
          <a:xfrm>
            <a:off x="1787400" y="127944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79"/>
          <p:cNvSpPr/>
          <p:nvPr/>
        </p:nvSpPr>
        <p:spPr>
          <a:xfrm>
            <a:off x="4051440" y="127944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79"/>
          <p:cNvSpPr/>
          <p:nvPr/>
        </p:nvSpPr>
        <p:spPr>
          <a:xfrm>
            <a:off x="6076800" y="129384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79"/>
          <p:cNvSpPr/>
          <p:nvPr/>
        </p:nvSpPr>
        <p:spPr>
          <a:xfrm>
            <a:off x="8140680" y="127944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79"/>
          <p:cNvSpPr/>
          <p:nvPr/>
        </p:nvSpPr>
        <p:spPr>
          <a:xfrm>
            <a:off x="1771560" y="242892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79"/>
          <p:cNvSpPr/>
          <p:nvPr/>
        </p:nvSpPr>
        <p:spPr>
          <a:xfrm>
            <a:off x="3978360" y="24192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79"/>
          <p:cNvSpPr/>
          <p:nvPr/>
        </p:nvSpPr>
        <p:spPr>
          <a:xfrm>
            <a:off x="6227640" y="241920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79"/>
          <p:cNvSpPr/>
          <p:nvPr/>
        </p:nvSpPr>
        <p:spPr>
          <a:xfrm>
            <a:off x="8491680" y="24192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3852720" y="571680"/>
            <a:ext cx="66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先想一想笔算乘、除法应注意什么？再分析下面题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错误原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椭圆 24"/>
          <p:cNvSpPr/>
          <p:nvPr/>
        </p:nvSpPr>
        <p:spPr>
          <a:xfrm>
            <a:off x="7508880" y="144468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62"/>
          <p:cNvGrpSpPr/>
          <p:nvPr/>
        </p:nvGrpSpPr>
        <p:grpSpPr>
          <a:xfrm>
            <a:off x="6372360" y="1371600"/>
            <a:ext cx="1915920" cy="1732680"/>
            <a:chOff x="6372360" y="1371600"/>
            <a:chExt cx="1915920" cy="1732680"/>
          </a:xfrm>
        </p:grpSpPr>
        <p:sp>
          <p:nvSpPr>
            <p:cNvPr id="1022" name="Text Box 29"/>
            <p:cNvSpPr/>
            <p:nvPr/>
          </p:nvSpPr>
          <p:spPr>
            <a:xfrm>
              <a:off x="6372360" y="1816200"/>
              <a:ext cx="663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30"/>
            <p:cNvSpPr/>
            <p:nvPr/>
          </p:nvSpPr>
          <p:spPr>
            <a:xfrm>
              <a:off x="7010280" y="1816200"/>
              <a:ext cx="1278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 0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文本框 25"/>
            <p:cNvSpPr/>
            <p:nvPr/>
          </p:nvSpPr>
          <p:spPr>
            <a:xfrm>
              <a:off x="7021440" y="2158920"/>
              <a:ext cx="1084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45"/>
            <p:cNvSpPr/>
            <p:nvPr/>
          </p:nvSpPr>
          <p:spPr>
            <a:xfrm>
              <a:off x="6966000" y="2631960"/>
              <a:ext cx="10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文本框 25"/>
            <p:cNvSpPr/>
            <p:nvPr/>
          </p:nvSpPr>
          <p:spPr>
            <a:xfrm>
              <a:off x="7275600" y="2571480"/>
              <a:ext cx="852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7" name="图片 13" descr=""/>
            <p:cNvPicPr/>
            <p:nvPr/>
          </p:nvPicPr>
          <p:blipFill>
            <a:blip r:embed="rId1"/>
            <a:stretch/>
          </p:blipFill>
          <p:spPr>
            <a:xfrm>
              <a:off x="6850800" y="1827360"/>
              <a:ext cx="103320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文本框 24"/>
            <p:cNvSpPr/>
            <p:nvPr/>
          </p:nvSpPr>
          <p:spPr>
            <a:xfrm>
              <a:off x="7270920" y="1371600"/>
              <a:ext cx="78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组合 77"/>
          <p:cNvGrpSpPr/>
          <p:nvPr/>
        </p:nvGrpSpPr>
        <p:grpSpPr>
          <a:xfrm>
            <a:off x="2647800" y="1428840"/>
            <a:ext cx="1571760" cy="2037240"/>
            <a:chOff x="2647800" y="1428840"/>
            <a:chExt cx="1571760" cy="2037240"/>
          </a:xfrm>
        </p:grpSpPr>
        <p:sp>
          <p:nvSpPr>
            <p:cNvPr id="1030" name="文本框 20"/>
            <p:cNvSpPr/>
            <p:nvPr/>
          </p:nvSpPr>
          <p:spPr>
            <a:xfrm>
              <a:off x="2747520" y="2933280"/>
              <a:ext cx="1357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5 </a:t>
              </a:r>
              <a:r>
                <a:rPr b="1" lang="zh-CN" sz="5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文本框 20"/>
            <p:cNvSpPr/>
            <p:nvPr/>
          </p:nvSpPr>
          <p:spPr>
            <a:xfrm>
              <a:off x="3004920" y="222876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20"/>
            <p:cNvSpPr/>
            <p:nvPr/>
          </p:nvSpPr>
          <p:spPr>
            <a:xfrm>
              <a:off x="3004920" y="142884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文本框 24"/>
            <p:cNvSpPr/>
            <p:nvPr/>
          </p:nvSpPr>
          <p:spPr>
            <a:xfrm>
              <a:off x="3262320" y="1766880"/>
              <a:ext cx="78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直接连接符 70"/>
            <p:cNvSpPr/>
            <p:nvPr/>
          </p:nvSpPr>
          <p:spPr>
            <a:xfrm>
              <a:off x="2719080" y="2266920"/>
              <a:ext cx="122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文本框 45"/>
            <p:cNvSpPr/>
            <p:nvPr/>
          </p:nvSpPr>
          <p:spPr>
            <a:xfrm>
              <a:off x="2647800" y="17668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文本框 20"/>
            <p:cNvSpPr/>
            <p:nvPr/>
          </p:nvSpPr>
          <p:spPr>
            <a:xfrm>
              <a:off x="2757240" y="254304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zh-CN" sz="5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直接连接符 74"/>
            <p:cNvSpPr/>
            <p:nvPr/>
          </p:nvSpPr>
          <p:spPr>
            <a:xfrm>
              <a:off x="2719080" y="3004920"/>
              <a:ext cx="122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组合 77"/>
          <p:cNvGrpSpPr/>
          <p:nvPr/>
        </p:nvGrpSpPr>
        <p:grpSpPr>
          <a:xfrm>
            <a:off x="503280" y="1419120"/>
            <a:ext cx="1571760" cy="2046960"/>
            <a:chOff x="503280" y="1419120"/>
            <a:chExt cx="1571760" cy="2046960"/>
          </a:xfrm>
        </p:grpSpPr>
        <p:sp>
          <p:nvSpPr>
            <p:cNvPr id="1039" name="文本框 20"/>
            <p:cNvSpPr/>
            <p:nvPr/>
          </p:nvSpPr>
          <p:spPr>
            <a:xfrm>
              <a:off x="612720" y="2933280"/>
              <a:ext cx="1357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文本框 20"/>
            <p:cNvSpPr/>
            <p:nvPr/>
          </p:nvSpPr>
          <p:spPr>
            <a:xfrm>
              <a:off x="860400" y="221904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文本框 20"/>
            <p:cNvSpPr/>
            <p:nvPr/>
          </p:nvSpPr>
          <p:spPr>
            <a:xfrm>
              <a:off x="860400" y="141912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24"/>
            <p:cNvSpPr/>
            <p:nvPr/>
          </p:nvSpPr>
          <p:spPr>
            <a:xfrm>
              <a:off x="1108080" y="1757160"/>
              <a:ext cx="78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70"/>
            <p:cNvSpPr/>
            <p:nvPr/>
          </p:nvSpPr>
          <p:spPr>
            <a:xfrm>
              <a:off x="574560" y="2257200"/>
              <a:ext cx="122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文本框 45"/>
            <p:cNvSpPr/>
            <p:nvPr/>
          </p:nvSpPr>
          <p:spPr>
            <a:xfrm>
              <a:off x="503280" y="1757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20"/>
            <p:cNvSpPr/>
            <p:nvPr/>
          </p:nvSpPr>
          <p:spPr>
            <a:xfrm>
              <a:off x="612720" y="2542680"/>
              <a:ext cx="12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直接连接符 74"/>
            <p:cNvSpPr/>
            <p:nvPr/>
          </p:nvSpPr>
          <p:spPr>
            <a:xfrm>
              <a:off x="574560" y="2995200"/>
              <a:ext cx="122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椭圆 8"/>
          <p:cNvSpPr/>
          <p:nvPr/>
        </p:nvSpPr>
        <p:spPr>
          <a:xfrm>
            <a:off x="1057320" y="2289240"/>
            <a:ext cx="731880" cy="385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51"/>
          <p:cNvSpPr/>
          <p:nvPr/>
        </p:nvSpPr>
        <p:spPr>
          <a:xfrm>
            <a:off x="539640" y="3530520"/>
            <a:ext cx="165600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应是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34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积，而不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的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直接箭头连接符 12"/>
          <p:cNvCxnSpPr/>
          <p:nvPr/>
        </p:nvCxnSpPr>
        <p:spPr>
          <a:xfrm flipH="1">
            <a:off x="1401480" y="2684520"/>
            <a:ext cx="2160" cy="829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0" name="椭圆 13"/>
          <p:cNvSpPr/>
          <p:nvPr/>
        </p:nvSpPr>
        <p:spPr>
          <a:xfrm>
            <a:off x="2971800" y="2289240"/>
            <a:ext cx="952560" cy="3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51"/>
          <p:cNvSpPr/>
          <p:nvPr/>
        </p:nvSpPr>
        <p:spPr>
          <a:xfrm>
            <a:off x="2470320" y="3530520"/>
            <a:ext cx="1596960" cy="752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十位和百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没加进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2" name="直接箭头连接符 15"/>
          <p:cNvCxnSpPr/>
          <p:nvPr/>
        </p:nvCxnSpPr>
        <p:spPr>
          <a:xfrm flipH="1">
            <a:off x="3310920" y="2684520"/>
            <a:ext cx="1080" cy="829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3" name="椭圆 16"/>
          <p:cNvSpPr/>
          <p:nvPr/>
        </p:nvSpPr>
        <p:spPr>
          <a:xfrm>
            <a:off x="5396040" y="144792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51"/>
          <p:cNvSpPr/>
          <p:nvPr/>
        </p:nvSpPr>
        <p:spPr>
          <a:xfrm>
            <a:off x="4473720" y="3530520"/>
            <a:ext cx="2043000" cy="752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前两位不够除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商应写在个位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椭圆 20"/>
          <p:cNvSpPr/>
          <p:nvPr/>
        </p:nvSpPr>
        <p:spPr>
          <a:xfrm>
            <a:off x="7280280" y="2639880"/>
            <a:ext cx="600120" cy="35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51"/>
          <p:cNvSpPr/>
          <p:nvPr/>
        </p:nvSpPr>
        <p:spPr>
          <a:xfrm>
            <a:off x="6762600" y="3530520"/>
            <a:ext cx="1986120" cy="752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余数等于除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商小了，应商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黑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7" name="直接箭头连接符 22"/>
          <p:cNvCxnSpPr/>
          <p:nvPr/>
        </p:nvCxnSpPr>
        <p:spPr>
          <a:xfrm>
            <a:off x="7596000" y="3007800"/>
            <a:ext cx="1080" cy="505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58" name="组合 60"/>
          <p:cNvGrpSpPr/>
          <p:nvPr/>
        </p:nvGrpSpPr>
        <p:grpSpPr>
          <a:xfrm>
            <a:off x="4502160" y="1363680"/>
            <a:ext cx="1984320" cy="1752120"/>
            <a:chOff x="4502160" y="1363680"/>
            <a:chExt cx="1984320" cy="1752120"/>
          </a:xfrm>
        </p:grpSpPr>
        <p:sp>
          <p:nvSpPr>
            <p:cNvPr id="1059" name="文本框 24"/>
            <p:cNvSpPr/>
            <p:nvPr/>
          </p:nvSpPr>
          <p:spPr>
            <a:xfrm>
              <a:off x="5396040" y="1363680"/>
              <a:ext cx="78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文本框 25"/>
            <p:cNvSpPr/>
            <p:nvPr/>
          </p:nvSpPr>
          <p:spPr>
            <a:xfrm>
              <a:off x="5132160" y="2151000"/>
              <a:ext cx="852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zh-CN" sz="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直接连接符 45"/>
            <p:cNvSpPr/>
            <p:nvPr/>
          </p:nvSpPr>
          <p:spPr>
            <a:xfrm>
              <a:off x="5095800" y="2652840"/>
              <a:ext cx="10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文本框 25"/>
            <p:cNvSpPr/>
            <p:nvPr/>
          </p:nvSpPr>
          <p:spPr>
            <a:xfrm>
              <a:off x="5634000" y="2583000"/>
              <a:ext cx="852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组合 41"/>
            <p:cNvGrpSpPr/>
            <p:nvPr/>
          </p:nvGrpSpPr>
          <p:grpSpPr>
            <a:xfrm>
              <a:off x="4502160" y="1816920"/>
              <a:ext cx="1916280" cy="532800"/>
              <a:chOff x="4502160" y="1816920"/>
              <a:chExt cx="1916280" cy="532800"/>
            </a:xfrm>
          </p:grpSpPr>
          <p:sp>
            <p:nvSpPr>
              <p:cNvPr id="1064" name="Text Box 29"/>
              <p:cNvSpPr/>
              <p:nvPr/>
            </p:nvSpPr>
            <p:spPr>
              <a:xfrm>
                <a:off x="4502160" y="1816920"/>
                <a:ext cx="66348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mbria"/>
                    <a:ea typeface="黑体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 Box 30"/>
              <p:cNvSpPr/>
              <p:nvPr/>
            </p:nvSpPr>
            <p:spPr>
              <a:xfrm>
                <a:off x="5140440" y="1816920"/>
                <a:ext cx="1278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mbria"/>
                    <a:ea typeface="黑体"/>
                  </a:rPr>
                  <a:t>3 6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图片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968720" y="1825560"/>
                <a:ext cx="1033560" cy="452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7" name="Rectangle 77"/>
            <p:cNvSpPr/>
            <p:nvPr/>
          </p:nvSpPr>
          <p:spPr>
            <a:xfrm>
              <a:off x="5614200" y="2173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mbria Math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68" name="直接箭头连接符 18"/>
          <p:cNvCxnSpPr/>
          <p:nvPr/>
        </p:nvCxnSpPr>
        <p:spPr>
          <a:xfrm>
            <a:off x="5439960" y="1750680"/>
            <a:ext cx="1080" cy="1762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2"/>
          <p:cNvSpPr/>
          <p:nvPr/>
        </p:nvSpPr>
        <p:spPr>
          <a:xfrm>
            <a:off x="854640" y="473040"/>
            <a:ext cx="4961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不计算，直接写出下面两题的积或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5×39=585                792÷24=3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50×39=                   396÷1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5×390=                   1584÷4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"/>
          <p:cNvSpPr/>
          <p:nvPr/>
        </p:nvSpPr>
        <p:spPr>
          <a:xfrm>
            <a:off x="1920240" y="2782800"/>
            <a:ext cx="5094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王阿姨的花店上月卖出几种花的情况如下表，请在空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中填上适当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1" name=""/>
          <p:cNvGraphicFramePr/>
          <p:nvPr/>
        </p:nvGraphicFramePr>
        <p:xfrm>
          <a:off x="1044720" y="3790800"/>
          <a:ext cx="6850080" cy="2552760"/>
        </p:xfrm>
        <a:graphic>
          <a:graphicData uri="http://schemas.openxmlformats.org/drawingml/2006/table">
            <a:tbl>
              <a:tblPr/>
              <a:tblGrid>
                <a:gridCol w="1711440"/>
                <a:gridCol w="1712880"/>
                <a:gridCol w="1711080"/>
                <a:gridCol w="1714680"/>
              </a:tblGrid>
              <a:tr h="8564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花   名             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价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茉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仙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杜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2" name="Rectangle 179"/>
          <p:cNvSpPr/>
          <p:nvPr/>
        </p:nvSpPr>
        <p:spPr>
          <a:xfrm>
            <a:off x="2217600" y="163836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79"/>
          <p:cNvSpPr/>
          <p:nvPr/>
        </p:nvSpPr>
        <p:spPr>
          <a:xfrm>
            <a:off x="5105520" y="163836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79"/>
          <p:cNvSpPr/>
          <p:nvPr/>
        </p:nvSpPr>
        <p:spPr>
          <a:xfrm>
            <a:off x="2217600" y="221292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79"/>
          <p:cNvSpPr/>
          <p:nvPr/>
        </p:nvSpPr>
        <p:spPr>
          <a:xfrm>
            <a:off x="5303880" y="221292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79"/>
          <p:cNvSpPr/>
          <p:nvPr/>
        </p:nvSpPr>
        <p:spPr>
          <a:xfrm>
            <a:off x="3365640" y="501156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79"/>
          <p:cNvSpPr/>
          <p:nvPr/>
        </p:nvSpPr>
        <p:spPr>
          <a:xfrm>
            <a:off x="5087880" y="436572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79"/>
          <p:cNvSpPr/>
          <p:nvPr/>
        </p:nvSpPr>
        <p:spPr>
          <a:xfrm>
            <a:off x="6738840" y="565776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0" name="TextBox 3"/>
          <p:cNvSpPr/>
          <p:nvPr/>
        </p:nvSpPr>
        <p:spPr>
          <a:xfrm>
            <a:off x="466560" y="11736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实践应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3"/>
          <p:cNvSpPr/>
          <p:nvPr/>
        </p:nvSpPr>
        <p:spPr>
          <a:xfrm>
            <a:off x="1104480" y="477720"/>
            <a:ext cx="609696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，看谁算得都对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0×8=           120×6=          72-4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20÷6=          450÷5=          360+9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5×16=           11×60=          9×50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810÷90=         630÷3=          560÷4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23×4=           54÷3=           7×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60÷30=          18×3=           250×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计算下面各题，并且验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125×43      665÷25      54×69      168÷32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952÷28      240×36      390÷60     207×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79"/>
          <p:cNvSpPr/>
          <p:nvPr/>
        </p:nvSpPr>
        <p:spPr>
          <a:xfrm>
            <a:off x="1716120" y="106524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79"/>
          <p:cNvSpPr/>
          <p:nvPr/>
        </p:nvSpPr>
        <p:spPr>
          <a:xfrm>
            <a:off x="4657680" y="106524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79"/>
          <p:cNvSpPr/>
          <p:nvPr/>
        </p:nvSpPr>
        <p:spPr>
          <a:xfrm>
            <a:off x="7169040" y="106524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179"/>
          <p:cNvSpPr/>
          <p:nvPr/>
        </p:nvSpPr>
        <p:spPr>
          <a:xfrm>
            <a:off x="1930320" y="163836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79"/>
          <p:cNvSpPr/>
          <p:nvPr/>
        </p:nvSpPr>
        <p:spPr>
          <a:xfrm>
            <a:off x="4610160" y="163044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179"/>
          <p:cNvSpPr/>
          <p:nvPr/>
        </p:nvSpPr>
        <p:spPr>
          <a:xfrm>
            <a:off x="7343640" y="162576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79"/>
          <p:cNvSpPr/>
          <p:nvPr/>
        </p:nvSpPr>
        <p:spPr>
          <a:xfrm>
            <a:off x="1738440" y="21906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79"/>
          <p:cNvSpPr/>
          <p:nvPr/>
        </p:nvSpPr>
        <p:spPr>
          <a:xfrm>
            <a:off x="4657680" y="221292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79"/>
          <p:cNvSpPr/>
          <p:nvPr/>
        </p:nvSpPr>
        <p:spPr>
          <a:xfrm>
            <a:off x="7169040" y="221292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179"/>
          <p:cNvSpPr/>
          <p:nvPr/>
        </p:nvSpPr>
        <p:spPr>
          <a:xfrm>
            <a:off x="2075040" y="278748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179"/>
          <p:cNvSpPr/>
          <p:nvPr/>
        </p:nvSpPr>
        <p:spPr>
          <a:xfrm>
            <a:off x="4657680" y="278748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79"/>
          <p:cNvSpPr/>
          <p:nvPr/>
        </p:nvSpPr>
        <p:spPr>
          <a:xfrm>
            <a:off x="7527960" y="278748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179"/>
          <p:cNvSpPr/>
          <p:nvPr/>
        </p:nvSpPr>
        <p:spPr>
          <a:xfrm>
            <a:off x="1716120" y="33606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179"/>
          <p:cNvSpPr/>
          <p:nvPr/>
        </p:nvSpPr>
        <p:spPr>
          <a:xfrm>
            <a:off x="4441680" y="336060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79"/>
          <p:cNvSpPr/>
          <p:nvPr/>
        </p:nvSpPr>
        <p:spPr>
          <a:xfrm>
            <a:off x="7169040" y="336060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79"/>
          <p:cNvSpPr/>
          <p:nvPr/>
        </p:nvSpPr>
        <p:spPr>
          <a:xfrm>
            <a:off x="1930320" y="393552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79"/>
          <p:cNvSpPr/>
          <p:nvPr/>
        </p:nvSpPr>
        <p:spPr>
          <a:xfrm>
            <a:off x="4441680" y="393552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79"/>
          <p:cNvSpPr/>
          <p:nvPr/>
        </p:nvSpPr>
        <p:spPr>
          <a:xfrm>
            <a:off x="7464600" y="39132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79"/>
          <p:cNvSpPr/>
          <p:nvPr/>
        </p:nvSpPr>
        <p:spPr>
          <a:xfrm>
            <a:off x="1716120" y="508320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79"/>
          <p:cNvSpPr/>
          <p:nvPr/>
        </p:nvSpPr>
        <p:spPr>
          <a:xfrm>
            <a:off x="3780000" y="506736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79"/>
          <p:cNvSpPr/>
          <p:nvPr/>
        </p:nvSpPr>
        <p:spPr>
          <a:xfrm>
            <a:off x="5718240" y="506736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79"/>
          <p:cNvSpPr/>
          <p:nvPr/>
        </p:nvSpPr>
        <p:spPr>
          <a:xfrm>
            <a:off x="7797960" y="506736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79"/>
          <p:cNvSpPr/>
          <p:nvPr/>
        </p:nvSpPr>
        <p:spPr>
          <a:xfrm>
            <a:off x="1698480" y="5640480"/>
            <a:ext cx="71460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79"/>
          <p:cNvSpPr/>
          <p:nvPr/>
        </p:nvSpPr>
        <p:spPr>
          <a:xfrm>
            <a:off x="3780000" y="564048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79"/>
          <p:cNvSpPr/>
          <p:nvPr/>
        </p:nvSpPr>
        <p:spPr>
          <a:xfrm>
            <a:off x="5861160" y="564048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79"/>
          <p:cNvSpPr/>
          <p:nvPr/>
        </p:nvSpPr>
        <p:spPr>
          <a:xfrm>
            <a:off x="7797960" y="564048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2"/>
          <p:cNvSpPr/>
          <p:nvPr/>
        </p:nvSpPr>
        <p:spPr>
          <a:xfrm>
            <a:off x="1279800" y="907920"/>
            <a:ext cx="6327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不计算，直接写出下面两题的积或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5÷9=5         28×14=392         840÷24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90÷18=         280×14=            840÷1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180÷36=         28×140=           1680÷24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欣欣家今年前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月的电话费是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，平均每个月电话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是多少元？照这样计算，一年的电话费是多少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79"/>
          <p:cNvSpPr/>
          <p:nvPr/>
        </p:nvSpPr>
        <p:spPr>
          <a:xfrm>
            <a:off x="1930320" y="207000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179"/>
          <p:cNvSpPr/>
          <p:nvPr/>
        </p:nvSpPr>
        <p:spPr>
          <a:xfrm>
            <a:off x="1914480" y="2627280"/>
            <a:ext cx="71460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79"/>
          <p:cNvSpPr/>
          <p:nvPr/>
        </p:nvSpPr>
        <p:spPr>
          <a:xfrm>
            <a:off x="4641840" y="205272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79"/>
          <p:cNvSpPr/>
          <p:nvPr/>
        </p:nvSpPr>
        <p:spPr>
          <a:xfrm>
            <a:off x="4641840" y="262728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79"/>
          <p:cNvSpPr/>
          <p:nvPr/>
        </p:nvSpPr>
        <p:spPr>
          <a:xfrm>
            <a:off x="7797960" y="2052720"/>
            <a:ext cx="7142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79"/>
          <p:cNvSpPr/>
          <p:nvPr/>
        </p:nvSpPr>
        <p:spPr>
          <a:xfrm>
            <a:off x="7797960" y="2627280"/>
            <a:ext cx="7142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179"/>
          <p:cNvSpPr/>
          <p:nvPr/>
        </p:nvSpPr>
        <p:spPr>
          <a:xfrm>
            <a:off x="695160" y="4749840"/>
            <a:ext cx="339732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0÷4=75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5×12=9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平均每个月电话费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，一年的电话费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7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2"/>
          <p:cNvSpPr/>
          <p:nvPr/>
        </p:nvSpPr>
        <p:spPr>
          <a:xfrm>
            <a:off x="1136520" y="1060560"/>
            <a:ext cx="611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乘法要从低位起，两位因数两次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积的定位是关键，用谁去乘对着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次乘积加一起，末尾有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先不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乘完积尾要加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有几个就加几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积随因数来变化，方向一致绝不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速度时间来相乘，它们的积是路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整数除法高位起，除数两位看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位不够看三位，除到哪位商哪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余数要比除数小，不够商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零占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除数和除数，同时乘除一个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同时乘除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算，商的大小不会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06:00:40Z</dcterms:created>
  <dc:creator/>
  <dc:description/>
  <dc:language>en-US</dc:language>
  <cp:lastModifiedBy>万润仪器贸易公司</cp:lastModifiedBy>
  <dcterms:modified xsi:type="dcterms:W3CDTF">2020-08-21T09:04:44Z</dcterms:modified>
  <cp:revision>2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